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B61D-E986-4B6C-8ACA-2C588FBBCB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9D3E-DC2A-4B3F-ABF8-94E281710DB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좋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성요소를 모아 놓는다고 자동적으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좋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스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되진 않는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532B-2145-4A35-B685-62BD3A5CB73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성요소의 개선 방식은 전체 시스템의 목적에 비추어 절충될 필요도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나의 해결책은 다른 해결책에도 영향을 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나의 해결책이 다른 문제를 야기할 수도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때로는 상충하는 것처럼 보였던 목표들이 획기적인 해결책에 의해 한꺼번에 해결되기도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C407-11ED-4D41-8D2C-B531C40BC13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501B-60A7-4A1C-8863-4D904044233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배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량은 기존의 가스등 인프라를 차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스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스계량기를 본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전은 기존의 발전기를 철저하게 분석하 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재설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나의 발전기가 수천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~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개의 전구를 밝힐 수 있어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구의 소비전력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시켰을 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전기의 전압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V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전기의 용량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n*100(W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여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냐하면 배전을 병렬로 해야 하므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소비는 전구만으로 끝나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소켓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위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EAC9-D282-43BB-A650-2D004A3551B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증기기관을 제외하면 시스템의 거의 모든 구성요소를 직접 발명 생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 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남에게 돈을 나눠주지 않겠다는 심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적화된 시스템의 개발을 위해 모든 구성요소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존의 제품들이 시스템의 목적에 부합하지 않았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D23E-9434-430E-A96E-0979443E324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35E2-2E3A-4DDD-BDC9-44626AE315B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극장과 같은 실내 조명 등의 틈새시장에서 시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중엔 가스회사와 정면으로 맞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단 발전소가 지어지고 나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 다음부터는 소비자만 늘면 노다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~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량소비를 통해서만 수익성이 극대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너무 먼 소비자만 아니라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D74C-4346-49B9-9055-DEAD57A9144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엔지니어들은 역돌출부가 나타난 장소에 집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엔지니어는 역돌출부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을 풀면 역돌출부를 제거할 수 있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결정적 문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들의 집합으로 정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CEE4-544F-424E-BB70-CDF074DD7CB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8CD5-46A9-4D2A-9873-3774DCED0B1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FAA7-EA05-4A68-B2EF-F3D589D50E4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2D20-3386-435B-979B-ABB013D52DE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495A-9A54-4C27-AE52-E7BE90DBE70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Gan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의 변압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9118-C691-4B6B-9E96-D89BCD20ABC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C079-5C3A-4EE1-871D-D2853935170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더 좋은 시스템으로 교체 안하고 비난했을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디슨은 비합리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No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기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렇다고는 할 수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스템은 기존에 투자된 것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장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능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의해 경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시스템은 기존 시스템의 이익 잠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시스템의 도입을 최대한 늦추어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존 소비자는 어떻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47CD-4FA4-4E05-9412-CEE2E701EE7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9DAA-7F98-4411-9740-230BBD6784A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F0AF-2F6E-4637-8085-48C4DC44418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8752-2931-4E2B-8B96-8EB2BDB132E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30D9-7FF8-4644-8B57-E91B47F9130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1D53-DCAC-451F-8348-A5FE5FD7383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E8E3-A8A3-4E7B-8387-552B12969C8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6193-8DCD-44EC-981D-9D28EF170CF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스템의 유지를 둘러싼 이해관계 집단 함께 성장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교육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제 공과대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기공학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기공학학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산업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전제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기설비 산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력 시스템은 더욱 공고해지고 안정되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확실성 제거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안정된 소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안정된 재투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속된 성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 문제들 해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D7DE-2B47-44B6-B76F-F6A55FD0BBA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1CF2-B767-4696-8C08-1B5A5AE559A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5116-C2EF-47BE-9013-90C5CCF2BE6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642C-B15E-434D-93E1-28E9CDDF7BC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가의 전기조명이 아닌 저렴한 전기조명을 통해 떼돈을 벌겠다는 목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383B-3CDA-45FF-AFBD-C106F6EE737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14FF-B2E4-461D-9B35-328ED6491B2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B078-9EC3-4325-812A-7FE9B8D1172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본적으로 백열등은 가스등이나 아크등보다 안전하다는 장점이 있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만으로는 선택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X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백열등이 성공하기 위해서는 백열등 시스템이 기존 시스템보다 성능과 경제성이 우월해야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를 위해 해결해야 할 문제가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B410-7A5C-4007-9CD4-0EB5B72357A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1B5-3427-4350-8D47-5E552842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631-9284-423D-97F1-D9495D55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69A-5910-4FA6-AF40-71BB42A8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8C4-14C4-44C3-B140-7D9812A3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56D-A459-4218-84B9-115749A0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D64-0BA4-45C7-BF39-569577F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734-5A9E-4CCD-ACB4-DAB36B31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8DB-33C4-4CE5-A074-1479619E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00D-99FC-4348-83B1-44ABD008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C5A-2540-4298-A6D9-8933C4AA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5D8-A87B-46D2-9529-70B7FA54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06A-39EA-4441-8A30-455D8AD6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916E-14B9-4766-A275-59A4270D9D3B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ann.nate.com/video/20686939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thomas_edison"/>
          <p:cNvPicPr/>
          <p:nvPr/>
        </p:nvPicPr>
        <p:blipFill>
          <a:blip r:embed="rId1"/>
          <a:stretch/>
        </p:blipFill>
        <p:spPr>
          <a:xfrm>
            <a:off x="0" y="-2332080"/>
            <a:ext cx="9144000" cy="1261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6360" y="4508640"/>
            <a:ext cx="33829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에디슨과 </a:t>
            </a:r>
            <a:br>
              <a:rPr sz="4400"/>
            </a:b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전력시스템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필요한 것은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최적화된 전기조명 시스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시스템의 목적에 맞는 가장 알맞은 구성이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구성요소의 좋고 나쁨은 시스템의 목적에 상대적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전기조명 시스템 최적화의 과제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도선의 비용을 어떻게 줄일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전기소비효율을 어떻게 높일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필라멘트의 수명은 어떻게 높일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전구의 밝기는 어떻게 높일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발전기의 용량은 어떻게 결정할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전기소비량은 어떤 방법으로 계량할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전기요금은 어떻게 책정해야 알맞을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여러 전구들을 어떻게 독립적으로 작동시킬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투자자와 소비자를 어떻게 끌어모을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시스템 작동을 위한 인력과 조직을 어떻게 마련할 것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 과제들은 전체 시스템을 생각해야만 해결 가능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고저항 전구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A 100Ω 100V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도선 비용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소비 효율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전구 밝기 문제를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한꺼번에 해결해준 중대한 해법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는 수많은 구성요소 중 하나에 불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에디슨의 전기조명 시스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발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직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배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병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소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저항 전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계량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시스템 작동을 위한 조직들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557000"/>
            <a:ext cx="778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45880">
              <a:spcBef>
                <a:spcPts val="649"/>
              </a:spcBef>
              <a:buClr>
                <a:srgbClr val="ffc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전등 회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재정 충당 및 발명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특허 관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257040" indent="-245880">
              <a:spcBef>
                <a:spcPts val="649"/>
              </a:spcBef>
              <a:buClr>
                <a:srgbClr val="ffc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뉴욕 에디슨 전기 조명 회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중앙발전소 설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257040" indent="-245880">
              <a:spcBef>
                <a:spcPts val="649"/>
              </a:spcBef>
              <a:buClr>
                <a:srgbClr val="ffc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기계 회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발전기 생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257040" indent="-245880">
              <a:spcBef>
                <a:spcPts val="649"/>
              </a:spcBef>
              <a:buClr>
                <a:srgbClr val="ffc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전기 튜브 회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송전 케이블 생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257040" indent="-245880">
              <a:spcBef>
                <a:spcPts val="649"/>
              </a:spcBef>
              <a:buClr>
                <a:srgbClr val="ffc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전구 회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백열등 생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257040" indent="-245880">
              <a:spcBef>
                <a:spcPts val="649"/>
              </a:spcBef>
              <a:buClr>
                <a:srgbClr val="ffc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먼로 파크 연구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개발 및 시스템의 문제 해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4" name="Picture 2" descr="Pearl Street station around 1883"/>
          <p:cNvPicPr/>
          <p:nvPr/>
        </p:nvPicPr>
        <p:blipFill>
          <a:blip r:embed="rId1"/>
          <a:stretch/>
        </p:blipFill>
        <p:spPr>
          <a:xfrm>
            <a:off x="1258920" y="1197000"/>
            <a:ext cx="3935520" cy="2660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69231"/>
          <p:cNvPicPr/>
          <p:nvPr/>
        </p:nvPicPr>
        <p:blipFill>
          <a:blip r:embed="rId2"/>
          <a:stretch/>
        </p:blipFill>
        <p:spPr>
          <a:xfrm>
            <a:off x="5435640" y="692280"/>
            <a:ext cx="3017880" cy="309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221351-1f1"/>
          <p:cNvPicPr/>
          <p:nvPr/>
        </p:nvPicPr>
        <p:blipFill>
          <a:blip r:embed="rId3"/>
          <a:stretch/>
        </p:blipFill>
        <p:spPr>
          <a:xfrm>
            <a:off x="468360" y="4076640"/>
            <a:ext cx="4701960" cy="2470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943560" y="6922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첫 번째 발전소인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earl Street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발전소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뉴욕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1882)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580000" y="4149720"/>
            <a:ext cx="302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에디슨의 전기조명 시스템</a:t>
            </a: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도시 번화가에 최적화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100 &amp; 200V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의 직류 발전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br>
              <a:rPr sz="1800"/>
            </a:b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수많은 백열등 병렬연결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대적인 시장개척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00720" y="259920"/>
            <a:ext cx="2193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Edison as Wizard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1" name="Picture 2" descr="Edison wiz 1879"/>
          <p:cNvPicPr/>
          <p:nvPr/>
        </p:nvPicPr>
        <p:blipFill>
          <a:blip r:embed="rId1"/>
          <a:stretch/>
        </p:blipFill>
        <p:spPr>
          <a:xfrm>
            <a:off x="2916360" y="353880"/>
            <a:ext cx="324000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시스템의 성장과 역돌출부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시스템의 성장에 따라 뒤쳐지는 부분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[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역돌출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]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발생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에 대한 보수적 해결책은 기존 시스템 성장에 기여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파격적 해결책은 새로운 시스템 형성 </a:t>
            </a:r>
            <a:r>
              <a:rPr b="0" lang="en-US" sz="24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시스템간 경쟁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송전거리의 한계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직류 시스템의 역돌출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송전시 소비되는 에너지 ∝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I</a:t>
            </a:r>
            <a:r>
              <a:rPr b="0" lang="en-US" sz="2600" spc="-1" strike="noStrike" baseline="30000">
                <a:solidFill>
                  <a:srgbClr val="ffc000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R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류 전쟁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직류 시스템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웨스팅하우스 교류 시스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http://pann.nate.com/video/206869391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구의 발명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에디슨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영국의 조지프 스완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년 전에 특허 출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스완과 에디슨 이전에도 많은 사람이 전구 발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2" name="Picture 2" descr="Early Edison Lamp"/>
          <p:cNvPicPr/>
          <p:nvPr/>
        </p:nvPicPr>
        <p:blipFill>
          <a:blip r:embed="rId1"/>
          <a:stretch/>
        </p:blipFill>
        <p:spPr>
          <a:xfrm>
            <a:off x="3851280" y="981000"/>
            <a:ext cx="1008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직류시스템의 보수적 해결책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0" name="Picture 8" descr="System diagram Generators in series, lamps in parallel, and three-wire distribution (Patent no 274290, 20 March 1882)"/>
          <p:cNvPicPr/>
          <p:nvPr/>
        </p:nvPicPr>
        <p:blipFill>
          <a:blip r:embed="rId1"/>
          <a:stretch/>
        </p:blipFill>
        <p:spPr>
          <a:xfrm>
            <a:off x="1255680" y="1554120"/>
            <a:ext cx="6913440" cy="4353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2892600" y="6021360"/>
            <a:ext cx="383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  <a:ea typeface="맑은 고딕"/>
              </a:rPr>
              <a:t>에디슨의 다선 배선 시스템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  <a:ea typeface="맑은 고딕"/>
              </a:rPr>
              <a:t>(1883</a:t>
            </a:r>
            <a:r>
              <a:rPr b="0" lang="ko-KR" sz="2200" spc="-1" strike="noStrike">
                <a:solidFill>
                  <a:srgbClr val="ffc000"/>
                </a:solidFill>
                <a:latin typeface="Georgia"/>
                <a:ea typeface="맑은 고딕"/>
              </a:rPr>
              <a:t>에 설치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  <a:ea typeface="맑은 고딕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웨스팅하우스의 파격적 해결책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4868640"/>
            <a:ext cx="8748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교류 발전 후 변압기를 이용한 고압 송전을 통해 전력손실 최소화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4" name="Picture 7" descr="trasf_o_ganz"/>
          <p:cNvPicPr/>
          <p:nvPr/>
        </p:nvPicPr>
        <p:blipFill>
          <a:blip r:embed="rId1"/>
          <a:stretch/>
        </p:blipFill>
        <p:spPr>
          <a:xfrm>
            <a:off x="395280" y="1989000"/>
            <a:ext cx="2257560" cy="269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web-books.com/eLibrary/Books/B1/B1396/MAIN/images/02007.png"/>
          <p:cNvPicPr/>
          <p:nvPr/>
        </p:nvPicPr>
        <p:blipFill>
          <a:blip r:embed="rId2"/>
          <a:stretch/>
        </p:blipFill>
        <p:spPr>
          <a:xfrm>
            <a:off x="2862360" y="1989000"/>
            <a:ext cx="628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8" name="Picture 2" descr="http://www.yenka.com/activities/Power_Transmission_Lines/attachments/Power%20Transmission%20Lines%20-%20Model%201.gif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836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에디슨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“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교류전류는 살인 전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1" name="Picture 4" descr="AC v DC"/>
          <p:cNvPicPr/>
          <p:nvPr/>
        </p:nvPicPr>
        <p:blipFill>
          <a:blip r:embed="rId1"/>
          <a:stretch/>
        </p:blipFill>
        <p:spPr>
          <a:xfrm>
            <a:off x="468360" y="2349360"/>
            <a:ext cx="387828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kemchar"/>
          <p:cNvPicPr/>
          <p:nvPr/>
        </p:nvPicPr>
        <p:blipFill>
          <a:blip r:embed="rId2"/>
          <a:stretch/>
        </p:blipFill>
        <p:spPr>
          <a:xfrm>
            <a:off x="4500720" y="2421000"/>
            <a:ext cx="3925800" cy="26766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4346640" y="515772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Kemmler Westinghoused!” (1890. 8. 6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009800" y="5445000"/>
            <a:ext cx="23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에디슨 연구소의 실험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(1888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교류 시스템의 성장과 승리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	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교류시스템의 문제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실용적 모터의 부재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64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해결책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상 교류 발전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터 개발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테슬라 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직류 시스템과의 경쟁에서 기술적 우위 획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7" name="Picture 4" descr="3-phase transmission system (Haselwander)"/>
          <p:cNvPicPr/>
          <p:nvPr/>
        </p:nvPicPr>
        <p:blipFill>
          <a:blip r:embed="rId1"/>
          <a:stretch/>
        </p:blipFill>
        <p:spPr>
          <a:xfrm>
            <a:off x="1147680" y="3068640"/>
            <a:ext cx="68090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2168280" y="5805360"/>
            <a:ext cx="48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다상 교류 발전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변압기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고압송전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변압기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다상 교류 모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존 직류 시스템의 모멘텀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본집약적 시스템의 성격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해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불가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소비자들이 이미 구입한 직류 상품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떻게 최대한 평화적으로 해결할 수 있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커플링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coupling)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&amp;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합병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merging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교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직류간 컨버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시스템간의 화해 호환 기술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교류로 고압 송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최종소비자는 직류로 전환 사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합병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디슨 회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톰슨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휴스턴 회사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GE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GE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와 웨스팅하우스 간의 특허교환 협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5" name="Picture 2" descr="Rotary converter DC end"/>
          <p:cNvPicPr/>
          <p:nvPr/>
        </p:nvPicPr>
        <p:blipFill>
          <a:blip r:embed="rId1"/>
          <a:stretch/>
        </p:blipFill>
        <p:spPr>
          <a:xfrm>
            <a:off x="291960" y="52560"/>
            <a:ext cx="8605800" cy="68054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5294520" y="404640"/>
            <a:ext cx="26614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화해의 기술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1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로터리 컨버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교류 시스템의 확장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8" name="Picture 4" descr="naiagara power"/>
          <p:cNvPicPr/>
          <p:nvPr/>
        </p:nvPicPr>
        <p:blipFill>
          <a:blip r:embed="rId1"/>
          <a:stretch/>
        </p:blipFill>
        <p:spPr>
          <a:xfrm>
            <a:off x="539640" y="155736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s13"/>
          <p:cNvPicPr/>
          <p:nvPr/>
        </p:nvPicPr>
        <p:blipFill>
          <a:blip r:embed="rId2"/>
          <a:stretch/>
        </p:blipFill>
        <p:spPr>
          <a:xfrm>
            <a:off x="5651640" y="1557360"/>
            <a:ext cx="2754000" cy="3673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698480" y="544680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나이아가라 수력발전소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(1893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518440" y="544680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나이아가라에서 뻗어나온 송전선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(1895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universal3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16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580000" y="5660640"/>
            <a:ext cx="3564000" cy="647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Trebuchet MS"/>
              </a:rPr>
              <a:t>보편 동력 공급 시스템</a:t>
            </a:r>
            <a:endParaRPr b="1" lang="en-US" sz="2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왜 우리는 에디슨을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구의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발명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로 기억할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공고화된 전력 시스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소비전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00V)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교류주파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60Hz)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등 통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소켓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콘센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러그 등의 연관 기술 표준 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전기관련 인력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전기관련 산업 급속도로 성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발명가보다 경영자 또는 재정가의 중요성 높아짐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토머스 휴즈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“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미국의 전기화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”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에디슨 시스템의 목적은 무엇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에디슨의 발명 방식에 기술적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경제적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과학적 요소가 종합되어 있었다는 말은 무슨 뜻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에디슨은 어떻게 고저항 전등을 전기조명 시스템의 필수적 요소로 파악하게 되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에디슨의 사례를 일반화하여 다른 기술의 성공 원인도 유추할 수 있을까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(e.g.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아이폰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싼 가격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오랜 수명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고효율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값싼 재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더 완벽한 진공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저항 필라멘트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뿐만 아니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52292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뿐만 아니라 </a:t>
            </a:r>
            <a:br>
              <a:rPr sz="3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기조명 시스템을 통째로 발명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9" name="Picture 2" descr="Early Edison Lamp"/>
          <p:cNvPicPr/>
          <p:nvPr/>
        </p:nvPicPr>
        <p:blipFill>
          <a:blip r:embed="rId1"/>
          <a:stretch/>
        </p:blipFill>
        <p:spPr>
          <a:xfrm>
            <a:off x="324000" y="260280"/>
            <a:ext cx="647640" cy="135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System diagram Generators in series, lamps in parallel, and three-wire distribution (Patent no 274290, 20 March 1882)"/>
          <p:cNvPicPr/>
          <p:nvPr/>
        </p:nvPicPr>
        <p:blipFill>
          <a:blip r:embed="rId2"/>
          <a:stretch/>
        </p:blipFill>
        <p:spPr>
          <a:xfrm>
            <a:off x="5651640" y="1844640"/>
            <a:ext cx="2449440" cy="389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Jumbo Generator"/>
          <p:cNvPicPr/>
          <p:nvPr/>
        </p:nvPicPr>
        <p:blipFill>
          <a:blip r:embed="rId3"/>
          <a:stretch/>
        </p:blipFill>
        <p:spPr>
          <a:xfrm>
            <a:off x="1187280" y="1916280"/>
            <a:ext cx="4206960" cy="3833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8"/>
          <p:cNvSpPr/>
          <p:nvPr/>
        </p:nvSpPr>
        <p:spPr>
          <a:xfrm>
            <a:off x="1856160" y="59594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  <a:ea typeface="맑은 고딕"/>
              </a:rPr>
              <a:t>백열등 수천 개를 켤 수 있는 점보 발전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6193800" y="595944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  <a:ea typeface="맑은 고딕"/>
              </a:rPr>
              <a:t>병렬 배선 시스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에디슨은 시스템 구축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중앙 발전소로부터 공급되는 전기를 이용해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든 가정에 저렴한 조명을 밝히는 시스템을 </a:t>
            </a:r>
            <a:br>
              <a:rPr sz="2600"/>
            </a:b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개념적 발명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제적 구축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상업적 성공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시스템적 사고는 왜 필요한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구는 혼자서 빛을 내지 못함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전구는 전기 회로가 완성되어야만 빛을 낼 수 있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좋은 전구를 발전기와 연결한다고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곧바로 돈을 벌 수 있는 것도 아님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성능 및 경제성 비교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크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스등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백열등이 아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크등 시스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스등 시스템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백열등 시스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5:11:04Z</dcterms:created>
  <dc:creator>zolaist</dc:creator>
  <dc:description/>
  <dc:language>en-US</dc:language>
  <cp:lastModifiedBy>zolaist</cp:lastModifiedBy>
  <dcterms:modified xsi:type="dcterms:W3CDTF">2011-05-20T05:18:52Z</dcterms:modified>
  <cp:revision>45</cp:revision>
  <dc:subject/>
  <dc:title>에디슨과  전력시스템</dc:title>
</cp:coreProperties>
</file>